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C9F7-F374-4DF8-84B5-6DA64AC40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806C-FF13-4D27-839E-1936354183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033-0481-442B-9775-49641F92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693-1460-4747-847F-AD596C79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41F-8283-42D0-91F6-2C40CAF3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076-91E4-4DBC-9772-5770CE0B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90E5-7EC3-4AA3-9D52-F968576D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18CE-EA43-4549-8A8E-5A1F63B4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FE0-F093-4AB0-AD6A-555822F7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0CC2-F03F-4686-8D66-9E8FCF8D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7466-022A-41F8-80CC-40970996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D100-EA2E-4A60-9F5D-ED97D690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DF90-4B53-4680-BAD7-26773E7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E33-DA9E-41C4-AB39-1231646E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2EAB-B5A9-4BAB-8A35-C3484E92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23E6-7A55-48E7-A93F-3F619C5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8561-8E6B-4293-86AE-DA9F9A7C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2075-5B6B-45B0-B17A-1CD0554A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9557-4B33-4C3B-B5B8-70A08C82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9D1-4C53-4F15-AB69-3512E7F2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01C-3402-4E3C-89D6-CCA1CBFA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D81-13F2-4EA4-B794-581BF5BD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EED-85CD-496F-B12D-01EB7873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CD1-5AF5-4F98-8F69-A5A0E88C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348-D550-4871-873E-F4A6376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CC3-6984-42E1-9BBF-1E4DFE2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029D-37DE-4E67-A551-92BD7E44756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F8AF-CFC5-4062-8A4D-C963CEB8AD2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3" descr=""/>
          <p:cNvPicPr/>
          <p:nvPr/>
        </p:nvPicPr>
        <p:blipFill>
          <a:blip r:embed="rId1"/>
          <a:stretch/>
        </p:blipFill>
        <p:spPr>
          <a:xfrm>
            <a:off x="324000" y="2408400"/>
            <a:ext cx="8307360" cy="3638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                        </a:t>
            </a:r>
            <a:r>
              <a:rPr b="0" lang="en-US" sz="4600" spc="-1" strike="noStrike">
                <a:solidFill>
                  <a:srgbClr val="af9738"/>
                </a:solidFill>
                <a:latin typeface="comic"/>
              </a:rPr>
              <a:t>Green Buildings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3520" y="16002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constructions and materials/components that makes these types of buildings environmentally friendly are: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ergy efficiency and renewable energ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er effici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vironmentally preferable building material and specific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te reduc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7" descr=""/>
          <p:cNvPicPr/>
          <p:nvPr/>
        </p:nvPicPr>
        <p:blipFill>
          <a:blip r:embed="rId1"/>
          <a:stretch/>
        </p:blipFill>
        <p:spPr>
          <a:xfrm>
            <a:off x="1822320" y="603360"/>
            <a:ext cx="5499360" cy="615960"/>
          </a:xfrm>
          <a:prstGeom prst="rect">
            <a:avLst/>
          </a:prstGeom>
          <a:ln w="0">
            <a:noFill/>
          </a:ln>
        </p:spPr>
      </p:pic>
      <p:grpSp>
        <p:nvGrpSpPr>
          <p:cNvPr id="94" name="Picture Placeholder 8"/>
          <p:cNvGrpSpPr/>
          <p:nvPr/>
        </p:nvGrpSpPr>
        <p:grpSpPr>
          <a:xfrm>
            <a:off x="2828880" y="1444680"/>
            <a:ext cx="6705720" cy="5803920"/>
            <a:chOff x="2828880" y="1444680"/>
            <a:chExt cx="6705720" cy="5803920"/>
          </a:xfrm>
        </p:grpSpPr>
        <p:pic>
          <p:nvPicPr>
            <p:cNvPr id="95" name="Picture Placeholder 8" descr=""/>
            <p:cNvPicPr/>
            <p:nvPr/>
          </p:nvPicPr>
          <p:blipFill>
            <a:blip r:embed="rId2"/>
            <a:stretch/>
          </p:blipFill>
          <p:spPr>
            <a:xfrm>
              <a:off x="2828880" y="1444680"/>
              <a:ext cx="6705720" cy="58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897280" y="1484280"/>
              <a:ext cx="6246720" cy="53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GREEN BUILDINGS ARE DESIGNED TO REDUCE THE OVERAL IMPACT OF THE  BUILT ENVIROMENT ON HUMAN HEALTH AND THE NATURAL ENVIRONMENT…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Y…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EFFICIENTLY USING ENERGY, WATER AND OTHER RESOURCES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Book Antiqua"/>
              </a:rPr>
              <a:t>PROTECTING OCCUPANT HEALTH ETC….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icture Placeholder 8"/>
          <p:cNvSpPr/>
          <p:nvPr/>
        </p:nvSpPr>
        <p:spPr>
          <a:xfrm>
            <a:off x="2897280" y="1484280"/>
            <a:ext cx="6246720" cy="5373720"/>
          </a:xfrm>
          <a:prstGeom prst="rect">
            <a:avLst/>
          </a:prstGeom>
          <a:solidFill>
            <a:srgbClr val="5c5a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passive_cooling_portland_green_building.jpg"/>
          <p:cNvPicPr/>
          <p:nvPr/>
        </p:nvPicPr>
        <p:blipFill>
          <a:blip r:embed="rId3"/>
          <a:stretch/>
        </p:blipFill>
        <p:spPr>
          <a:xfrm>
            <a:off x="2819520" y="1447920"/>
            <a:ext cx="629424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50:49Z</dcterms:created>
  <dc:creator> </dc:creator>
  <dc:description/>
  <dc:language>en-US</dc:language>
  <cp:lastModifiedBy> </cp:lastModifiedBy>
  <dcterms:modified xsi:type="dcterms:W3CDTF">2009-05-01T17:00:06Z</dcterms:modified>
  <cp:revision>14</cp:revision>
  <dc:subject/>
  <dc:title>Elisabeth Nunez.  Johanny Cabrera. Paola Pena.                Edison Garcia. Julia Guzman.</dc:title>
</cp:coreProperties>
</file>